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67B-7A72-405B-9D74-006B791D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B549-C3CA-4F4A-A7B2-CC334401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611-6BEF-4903-9B85-249D5777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176-4BF6-4214-B119-1913F7AF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FCC-BE31-4F0C-92A8-2673B5F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252-5360-45B4-9272-405153B1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222-A595-4B53-B91A-99F71CB6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5B9-89A8-4969-9132-12051B37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D9A-2FB3-4333-9CC2-D1EF4AF9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548-574B-4BDE-A137-7B988C29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F43-723E-4354-B413-62FD2D41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FE1-6676-4680-B0D1-EACC54B1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2991-7C6D-46B1-B609-018F580F3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ждународная конференция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Арктика: регион развития и сотрудничества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СМД, 2-3 декабря 2013 г., Моск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управленческих кадров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ктики и Се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РЧКОВА ВЕРА ИВАН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, д.э.н., научный руководитель магистерской программы «Управление социальным развитием российского Север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йская академия народного хозяйства и государственной службы при Президенте РФ (РАНХиГ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.smorchkova@migsu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0" descr="Рисунок11.jpg"/>
          <p:cNvPicPr/>
          <p:nvPr/>
        </p:nvPicPr>
        <p:blipFill>
          <a:blip r:embed="rId1"/>
          <a:stretch/>
        </p:blipFill>
        <p:spPr>
          <a:xfrm>
            <a:off x="7920" y="6537240"/>
            <a:ext cx="91360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70" descr="Рисунок11.jpg"/>
          <p:cNvPicPr/>
          <p:nvPr/>
        </p:nvPicPr>
        <p:blipFill>
          <a:blip r:embed="rId1"/>
          <a:stretch/>
        </p:blipFill>
        <p:spPr>
          <a:xfrm>
            <a:off x="7920" y="6537240"/>
            <a:ext cx="9136080" cy="3207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0" descr="Рисунок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0" descr="Путин1.jpg"/>
          <p:cNvPicPr/>
          <p:nvPr/>
        </p:nvPicPr>
        <p:blipFill>
          <a:blip r:embed="rId1"/>
          <a:srcRect l="14415" t="0" r="20712" b="0"/>
          <a:stretch/>
        </p:blipFill>
        <p:spPr>
          <a:xfrm>
            <a:off x="324000" y="260280"/>
            <a:ext cx="2376360" cy="273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48000" y="33336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… У России есть несколько приоритетов государственной политики в Ар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ервую очередь речь идёт о создании качественных, комфортных условий для жизни людей, в том числе о бережном отношении к традициям и хозяйственному укладу коренных и малочисленных народов Сев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торое - это поддержка новых точек экономического роста, привлечение в регион масштабных отечественных и зарубежных инвести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64" descr="m-4"/>
          <p:cNvPicPr/>
          <p:nvPr/>
        </p:nvPicPr>
        <p:blipFill>
          <a:blip r:embed="rId2"/>
          <a:stretch/>
        </p:blipFill>
        <p:spPr>
          <a:xfrm>
            <a:off x="0" y="4149720"/>
            <a:ext cx="1582560" cy="2160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4363920"/>
            <a:ext cx="74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…Наша задача, естественно, сохранить уклад жиз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самобытную культуру коренных народов, при этом,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ругой стороны, придав этой жизни всё-та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ую динамику и создав дополни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овия для нормальной жизни, подняв станда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й жизн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70" descr="Рисунок11.jpg"/>
          <p:cNvPicPr/>
          <p:nvPr/>
        </p:nvPicPr>
        <p:blipFill>
          <a:blip r:embed="rId3"/>
          <a:stretch/>
        </p:blipFill>
        <p:spPr>
          <a:xfrm>
            <a:off x="7920" y="6537240"/>
            <a:ext cx="91360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ooks?id=rCwOAAAAQAAJ&amp;hl=ru&amp;hl=ru&amp;pg=PP1&amp;img=1&amp;zoom=3&amp;sig=ACfU3U28xv9422WTzAHVzdG338HG3gqR4w&amp;w=685"/>
          <p:cNvPicPr/>
          <p:nvPr/>
        </p:nvPicPr>
        <p:blipFill>
          <a:blip r:embed="rId1"/>
          <a:stretch/>
        </p:blipFill>
        <p:spPr>
          <a:xfrm>
            <a:off x="2124000" y="1268280"/>
            <a:ext cx="4321080" cy="5445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.Армстронг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Мы ошиблись в прогноз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0" descr="Рисунок11.jpg"/>
          <p:cNvPicPr/>
          <p:nvPr/>
        </p:nvPicPr>
        <p:blipFill>
          <a:blip r:embed="rId2"/>
          <a:stretch/>
        </p:blipFill>
        <p:spPr>
          <a:xfrm>
            <a:off x="7920" y="6537240"/>
            <a:ext cx="91360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75480" cy="6191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0" descr="Рисунок11.jpg"/>
          <p:cNvPicPr/>
          <p:nvPr/>
        </p:nvPicPr>
        <p:blipFill>
          <a:blip r:embed="rId2"/>
          <a:stretch/>
        </p:blipFill>
        <p:spPr>
          <a:xfrm>
            <a:off x="7920" y="6537240"/>
            <a:ext cx="91360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НХиГС при Президенте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Здание РАНХиГС"/>
          <p:cNvPicPr/>
          <p:nvPr/>
        </p:nvPicPr>
        <p:blipFill>
          <a:blip r:embed="rId1"/>
          <a:stretch/>
        </p:blipFill>
        <p:spPr>
          <a:xfrm>
            <a:off x="468360" y="981000"/>
            <a:ext cx="8207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\\Sardana\общая\02.СДМПиРЭП\4.РФ Президент,Правительство,ГД,Визиты,Счетная палата\3. ФОИВ\2013\Минрегион России 28 июня\ДИ\маршруты СМП.jpg"/>
          <p:cNvPicPr/>
          <p:nvPr/>
        </p:nvPicPr>
        <p:blipFill>
          <a:blip r:embed="rId1"/>
          <a:srcRect l="0" t="11052" r="0" b="0"/>
          <a:stretch/>
        </p:blipFill>
        <p:spPr>
          <a:xfrm>
            <a:off x="0" y="404640"/>
            <a:ext cx="9144000" cy="5977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0" descr="Рисунок11.jpg"/>
          <p:cNvPicPr/>
          <p:nvPr/>
        </p:nvPicPr>
        <p:blipFill>
          <a:blip r:embed="rId2"/>
          <a:stretch/>
        </p:blipFill>
        <p:spPr>
          <a:xfrm>
            <a:off x="7920" y="6537240"/>
            <a:ext cx="91360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годня студентами «северной» магистерской программы являют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 ЯНАО -  54 челов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.ч. 25 человек – представители КМНС и муниципальные служащ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 – госслужащ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- предпринимате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– из сферы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- С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Республики Саха (Якутия) – 5 челов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.ч. 2 – госслужащ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 – муниципальные служа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Чукотского автономного округа – 2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.ч. 1  -госслужащий и 1 муниципальный служа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Республики Буря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4 человека –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Краснояр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1 человек, муниципальный служащий из Эвенкийского М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ХМАО-Юг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2 предприним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Москв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6 человек – предприним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70" descr="Рисунок11.jpg"/>
          <p:cNvPicPr/>
          <p:nvPr/>
        </p:nvPicPr>
        <p:blipFill>
          <a:blip r:embed="rId1"/>
          <a:stretch/>
        </p:blipFill>
        <p:spPr>
          <a:xfrm>
            <a:off x="7920" y="6537240"/>
            <a:ext cx="91360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жировки студ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шли в различных министерствах северных стра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орвег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ан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над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Ш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инлянд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0" descr="Рисунок11.jpg"/>
          <p:cNvPicPr/>
          <p:nvPr/>
        </p:nvPicPr>
        <p:blipFill>
          <a:blip r:embed="rId1"/>
          <a:stretch/>
        </p:blipFill>
        <p:spPr>
          <a:xfrm>
            <a:off x="7920" y="6537240"/>
            <a:ext cx="913608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тнеры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т Федер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ударственная Ду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сское географическое общество -Р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тельство ЯНА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тр социального развития Сев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сковская ассоциация полярников (МОСП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21:49:47Z</dcterms:created>
  <dc:creator>Вера</dc:creator>
  <dc:description/>
  <dc:language>en-US</dc:language>
  <cp:lastModifiedBy>Вера</cp:lastModifiedBy>
  <dcterms:modified xsi:type="dcterms:W3CDTF">2013-12-08T15:03:17Z</dcterms:modified>
  <cp:revision>11</cp:revision>
  <dc:subject/>
  <dc:title>Международная конференция  «Арктика: регион развития и сотрудничества»</dc:title>
</cp:coreProperties>
</file>